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D91B-79F2-4FF9-9997-AE5BDA450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0200"/>
            <a:ext cx="582912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5560"/>
            <a:ext cx="582912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CAA9-1564-4804-A1F7-1F3BC8019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0200"/>
            <a:ext cx="284436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0200"/>
            <a:ext cx="284436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5560"/>
            <a:ext cx="284436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5560"/>
            <a:ext cx="284436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32FB-0DC5-41E8-8E46-64601C266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0200"/>
            <a:ext cx="187668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0200"/>
            <a:ext cx="187668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0200"/>
            <a:ext cx="187668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5560"/>
            <a:ext cx="187668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5560"/>
            <a:ext cx="187668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5560"/>
            <a:ext cx="187668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C5D5-A1C8-4148-9F57-60B9CBADE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0200"/>
            <a:ext cx="5829120" cy="59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5936-6E14-459F-9FB7-BEFFE47E0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0200"/>
            <a:ext cx="5829120" cy="5945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D6BD-4856-4ABD-B977-006374842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0200"/>
            <a:ext cx="2844360" cy="5945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0200"/>
            <a:ext cx="2844360" cy="5945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D244-8C67-4422-B25C-1C0F00F6C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6F56-37EA-4EC1-9E10-BEB399B74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AC60-3C0F-4EE3-B209-7D3806FD3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0200"/>
            <a:ext cx="284436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0200"/>
            <a:ext cx="2844360" cy="5945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5560"/>
            <a:ext cx="284436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0F2C-32B3-4AE3-8C4D-9E99301A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0200"/>
            <a:ext cx="2844360" cy="5945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0200"/>
            <a:ext cx="284436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5560"/>
            <a:ext cx="284436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3E50-CC49-4548-9291-67F7A8C7E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0200"/>
            <a:ext cx="284436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0200"/>
            <a:ext cx="284436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5560"/>
            <a:ext cx="5829120" cy="2835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9EB3-3CD3-4A43-BA13-8C457727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0200"/>
            <a:ext cx="5829120" cy="5945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7000" indent="-23976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6520" indent="-23976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2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2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2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B75C48E-1AEB-41C4-AC0D-FB62ECA6DB07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76320"/>
            <a:ext cx="6602400" cy="15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60" rIns="23760" tIns="11880" bIns="11880" anchor="t">
            <a:sp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1" lang="it-IT" sz="1400" spc="-1" strike="noStrike">
                <a:solidFill>
                  <a:srgbClr val="00ff00"/>
                </a:solidFill>
                <a:latin typeface="Comic Sans MS"/>
                <a:ea typeface="Times New Roman"/>
              </a:rPr>
              <a:t>INTERACTION BETWEEN EOTAXIN AND IL-13 IN SERU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1" lang="it-IT" sz="1400" spc="-1" strike="noStrike">
                <a:solidFill>
                  <a:srgbClr val="00ff00"/>
                </a:solidFill>
                <a:latin typeface="Comic Sans MS"/>
                <a:ea typeface="Times New Roman"/>
              </a:rPr>
              <a:t>AND SPUTUM: COMPARISON BETWEEN NORM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1" lang="it-IT" sz="1400" spc="-1" strike="noStrike">
                <a:solidFill>
                  <a:srgbClr val="00ff00"/>
                </a:solidFill>
                <a:latin typeface="Comic Sans MS"/>
                <a:ea typeface="Times New Roman"/>
              </a:rPr>
              <a:t>AND ALLERGIC ASTHMATICS CHILDR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1" lang="it-IT" sz="10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M. Cossettini</a:t>
            </a:r>
            <a:r>
              <a:rPr b="1" lang="it-IT" sz="1000" spc="-1" strike="noStrike" baseline="30000">
                <a:solidFill>
                  <a:srgbClr val="99ffcc"/>
                </a:solidFill>
                <a:latin typeface="Comic Sans MS"/>
                <a:ea typeface="Times New Roman"/>
              </a:rPr>
              <a:t>1</a:t>
            </a:r>
            <a:r>
              <a:rPr b="1" lang="it-IT" sz="10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, M. Don</a:t>
            </a:r>
            <a:r>
              <a:rPr b="1" lang="it-IT" sz="1000" spc="-1" strike="noStrike" baseline="30000">
                <a:solidFill>
                  <a:srgbClr val="99ffcc"/>
                </a:solidFill>
                <a:latin typeface="Comic Sans MS"/>
                <a:ea typeface="Times New Roman"/>
              </a:rPr>
              <a:t>1</a:t>
            </a:r>
            <a:r>
              <a:rPr b="1" lang="it-IT" sz="10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, B. Cuomo</a:t>
            </a:r>
            <a:r>
              <a:rPr b="1" lang="it-IT" sz="1000" spc="-1" strike="noStrike" baseline="30000">
                <a:solidFill>
                  <a:srgbClr val="99ffcc"/>
                </a:solidFill>
                <a:latin typeface="Comic Sans MS"/>
              </a:rPr>
              <a:t>1</a:t>
            </a:r>
            <a:r>
              <a:rPr b="1" lang="it-IT" sz="10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, L. Fasoli</a:t>
            </a:r>
            <a:r>
              <a:rPr b="1" lang="it-IT" sz="1000" spc="-1" strike="noStrike" baseline="30000">
                <a:solidFill>
                  <a:srgbClr val="99ffcc"/>
                </a:solidFill>
                <a:latin typeface="Comic Sans MS"/>
                <a:ea typeface="Times New Roman"/>
              </a:rPr>
              <a:t>1</a:t>
            </a:r>
            <a:r>
              <a:rPr b="1" lang="it-IT" sz="10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, T. Guerrera</a:t>
            </a:r>
            <a:r>
              <a:rPr b="1" lang="it-IT" sz="1000" spc="-1" strike="noStrike" baseline="30000">
                <a:solidFill>
                  <a:srgbClr val="99ffcc"/>
                </a:solidFill>
                <a:latin typeface="Comic Sans MS"/>
                <a:ea typeface="Times New Roman"/>
              </a:rPr>
              <a:t>1</a:t>
            </a:r>
            <a:r>
              <a:rPr b="1" lang="it-IT" sz="10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, F. Saretta</a:t>
            </a:r>
            <a:r>
              <a:rPr b="1" lang="it-IT" sz="1000" spc="-1" strike="noStrike" baseline="30000">
                <a:solidFill>
                  <a:srgbClr val="99ffcc"/>
                </a:solidFill>
                <a:latin typeface="Comic Sans MS"/>
                <a:ea typeface="Times New Roman"/>
              </a:rPr>
              <a:t>1</a:t>
            </a:r>
            <a:r>
              <a:rPr b="1" lang="it-IT" sz="10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, D. Artico</a:t>
            </a:r>
            <a:r>
              <a:rPr b="1" lang="it-IT" sz="1000" spc="-1" strike="noStrike" baseline="30000">
                <a:solidFill>
                  <a:srgbClr val="99ffcc"/>
                </a:solidFill>
                <a:latin typeface="Comic Sans MS"/>
                <a:ea typeface="Times New Roman"/>
              </a:rPr>
              <a:t>2</a:t>
            </a:r>
            <a:r>
              <a:rPr b="1" lang="it-IT" sz="10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 and M. Canciani</a:t>
            </a:r>
            <a:r>
              <a:rPr b="1" lang="it-IT" sz="1000" spc="-1" strike="noStrike" baseline="30000">
                <a:solidFill>
                  <a:srgbClr val="99ffcc"/>
                </a:solidFill>
                <a:latin typeface="Comic Sans MS"/>
                <a:ea typeface="Times New Roman"/>
              </a:rPr>
              <a:t>1</a:t>
            </a:r>
            <a:r>
              <a:rPr b="1" lang="it-IT" sz="10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1" i="1" lang="it-IT" sz="800" spc="-1" strike="noStrike">
                <a:solidFill>
                  <a:srgbClr val="99ffcc"/>
                </a:solidFill>
                <a:latin typeface="Comic Sans MS"/>
              </a:rPr>
              <a:t>1 Pediatric Dpt. DPMSC, University of Udine School of Medicine, Udine, Ita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1" i="1" lang="it-IT" sz="800" spc="-1" strike="noStrike">
                <a:solidFill>
                  <a:srgbClr val="99ffcc"/>
                </a:solidFill>
                <a:latin typeface="Comic Sans MS"/>
              </a:rPr>
              <a:t>2  Pathology Dpt. DPMSC, University of Udine School of Medicine, Udine, Ita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676520"/>
            <a:ext cx="640224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60" rIns="23760" tIns="11880" bIns="1188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otaxin, among the CC-chemokine, is the most potent and most specific chemoattractant for eosinophils </a:t>
            </a:r>
            <a:r>
              <a:rPr b="0" lang="it-IT" sz="1200" spc="-1" strike="noStrike" baseline="30000">
                <a:solidFill>
                  <a:srgbClr val="ffffff"/>
                </a:solidFill>
                <a:latin typeface="Comic Sans MS"/>
                <a:ea typeface="Times New Roman"/>
              </a:rPr>
              <a:t>(1)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. T helper type 2 cytokine interleukin-13 (IL-13) induces eosinophilic inflammatory response and up-regulates eotaxin production </a:t>
            </a:r>
            <a:r>
              <a:rPr b="0" lang="it-IT" sz="1200" spc="-1" strike="noStrike" baseline="30000">
                <a:solidFill>
                  <a:srgbClr val="ffffff"/>
                </a:solidFill>
                <a:latin typeface="Comic Sans MS"/>
                <a:ea typeface="Times New Roman"/>
              </a:rPr>
              <a:t>(2)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.</a:t>
            </a:r>
            <a:r>
              <a:rPr b="1" lang="it-IT" sz="1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1" lang="it-IT" sz="1200" spc="-1" strike="noStrike" u="sng">
                <a:solidFill>
                  <a:srgbClr val="00ff00"/>
                </a:solidFill>
                <a:uFillTx/>
                <a:latin typeface="Comic Sans MS"/>
                <a:ea typeface="Arial"/>
              </a:rPr>
              <a:t>A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The aim of this study was to compare IL-13 levels in serum and induced sputum in asthmatics and controls and to correlate IL-13 levels with eotaxin and eosinophils.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1" lang="en-GB" sz="1200" spc="-1" strike="noStrike" u="sng">
                <a:solidFill>
                  <a:srgbClr val="00ff00"/>
                </a:solidFill>
                <a:uFillTx/>
                <a:latin typeface="Comic Sans MS"/>
                <a:ea typeface="Times New Roman"/>
              </a:rPr>
              <a:t>Meth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We evaluated IL-13 levels in serum and induced sputum from 33 children with moderate asymptomatic, allergic asthma and in 27 healthy, non-allergic children during summer. We correlated IL-13 levels with eotaxin and eosinophils in serum and sputum, too. Serum and sputum levels of eotaxin and IL-13 were measured by immunoassay. Sputum was induced by inhalation of hypertonic saline solu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1" lang="en-GB" sz="1200" spc="-1" strike="noStrike" u="sng">
                <a:solidFill>
                  <a:srgbClr val="00ff00"/>
                </a:solidFill>
                <a:uFillTx/>
                <a:latin typeface="Comic Sans MS"/>
                <a:ea typeface="Times New Roman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No differences were found in sputum and serum IL-13 levels between asthmatics and controls. No correlations were found between sputum eotaxin and sputum IL-13. Sputum and serum IL-13 were not correlated with sputum and serum eosinophils. Serum (mean respectively 498/mmc and 281/mmc; p=0.001) and sputum (mean respectively 5.11% and 0.77%; p=0.002) eosinophils were significantly higher in asthmatics than in controls. Eotaxin levels were higher in asthmatics than in control subjects in serum (mean respectively 113.14pg/ml and 64.58pg/ml; p=0.002) but not in induced sputu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09640" y="9671040"/>
            <a:ext cx="3395880" cy="1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60" rIns="23760" tIns="11880" bIns="11880" anchor="t">
            <a:spAutoFit/>
          </a:bodyPr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1" lang="it-IT" sz="1200" spc="-1" strike="noStrike">
                <a:solidFill>
                  <a:srgbClr val="00ff00"/>
                </a:solidFill>
                <a:latin typeface="Comic Sans MS"/>
              </a:rPr>
              <a:t>ERS Congress Glasgow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2040" y="8380440"/>
            <a:ext cx="5859360" cy="1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60" rIns="23760" tIns="11880" bIns="1188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7848720"/>
            <a:ext cx="6478560" cy="16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ff00"/>
                </a:solidFill>
                <a:uFillTx/>
                <a:latin typeface="Comic Sans MS"/>
              </a:rPr>
              <a:t>Conclusions</a:t>
            </a:r>
            <a:r>
              <a:rPr b="1" lang="en-GB" sz="1200" spc="-1" strike="noStrike" u="sng">
                <a:solidFill>
                  <a:srgbClr val="00ccff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n conclusion, it seems that during asymptomatic phases eotaxin production is not induced by IL-13. These results suggest that the Th2 cytokine IL-13 is not involved in selective recruitment of eosinophils by up-regulating eotaxin during the asymptomatic phase of asthm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 u="sng">
                <a:solidFill>
                  <a:srgbClr val="00ff00"/>
                </a:solidFill>
                <a:uFillTx/>
                <a:latin typeface="Comic Sans MS"/>
                <a:ea typeface="Times New Roman"/>
              </a:rPr>
              <a:t>Referen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1. Rothenberg ME. Eosinophilia. N Engl J Med 1998;338:1592-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ffffff"/>
                </a:solidFill>
                <a:latin typeface="Comic Sans MS"/>
              </a:rPr>
              <a:t>2. Wills-Karp M, Luyimbazi J, Xu X, Schofield B, Neben TY, Karp CL, Donaldson DD. Interleukin-13: central mediator of allergic asthma. Science 1998;103:779-78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666880" y="6048360"/>
          <a:ext cx="3962160" cy="1800360"/>
        </p:xfrm>
        <a:graphic>
          <a:graphicData uri="http://schemas.openxmlformats.org/drawingml/2006/table">
            <a:tbl>
              <a:tblPr/>
              <a:tblGrid>
                <a:gridCol w="1428480"/>
                <a:gridCol w="943200"/>
                <a:gridCol w="993600"/>
                <a:gridCol w="59688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gradFill rotWithShape="0">
                      <a:gsLst>
                        <a:gs pos="0">
                          <a:srgbClr val="3333cc"/>
                        </a:gs>
                        <a:gs pos="50000">
                          <a:srgbClr val="00ff00"/>
                        </a:gs>
                        <a:gs pos="100000">
                          <a:srgbClr val="3333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ASTHMATIC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gradFill rotWithShape="0">
                      <a:gsLst>
                        <a:gs pos="0">
                          <a:srgbClr val="3333cc"/>
                        </a:gs>
                        <a:gs pos="50000">
                          <a:srgbClr val="00ff00"/>
                        </a:gs>
                        <a:gs pos="100000">
                          <a:srgbClr val="3333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CONTROL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gradFill rotWithShape="0">
                      <a:gsLst>
                        <a:gs pos="0">
                          <a:srgbClr val="3333cc"/>
                        </a:gs>
                        <a:gs pos="50000">
                          <a:srgbClr val="00ff00"/>
                        </a:gs>
                        <a:gs pos="100000">
                          <a:srgbClr val="3333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gradFill rotWithShape="0">
                      <a:gsLst>
                        <a:gs pos="0">
                          <a:srgbClr val="3333cc"/>
                        </a:gs>
                        <a:gs pos="50000">
                          <a:srgbClr val="00ff00"/>
                        </a:gs>
                        <a:gs pos="100000">
                          <a:srgbClr val="3333cc"/>
                        </a:gs>
                      </a:gsLst>
                      <a:lin ang="5400000"/>
                    </a:gradFill>
                  </a:tcPr>
                </a:tc>
              </a:tr>
              <a:tr h="24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ERUM IL-13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gradFill rotWithShape="0">
                      <a:gsLst>
                        <a:gs pos="0">
                          <a:srgbClr val="3333cc"/>
                        </a:gs>
                        <a:gs pos="50000">
                          <a:srgbClr val="00ff00"/>
                        </a:gs>
                        <a:gs pos="100000">
                          <a:srgbClr val="3333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it-IT" sz="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24.07  pg/m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gradFill rotWithShape="0">
                      <a:gsLst>
                        <a:gs pos="0">
                          <a:srgbClr val="3333cc"/>
                        </a:gs>
                        <a:gs pos="50000">
                          <a:srgbClr val="00ff00"/>
                        </a:gs>
                        <a:gs pos="100000">
                          <a:srgbClr val="3333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it-IT" sz="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82.39 pg/m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gradFill rotWithShape="0">
                      <a:gsLst>
                        <a:gs pos="0">
                          <a:srgbClr val="3333cc"/>
                        </a:gs>
                        <a:gs pos="50000">
                          <a:srgbClr val="00ff00"/>
                        </a:gs>
                        <a:gs pos="100000">
                          <a:srgbClr val="3333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.S.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gradFill rotWithShape="0">
                      <a:gsLst>
                        <a:gs pos="0">
                          <a:srgbClr val="3333cc"/>
                        </a:gs>
                        <a:gs pos="50000">
                          <a:srgbClr val="00ff00"/>
                        </a:gs>
                        <a:gs pos="100000">
                          <a:srgbClr val="3333cc"/>
                        </a:gs>
                      </a:gsLst>
                      <a:lin ang="5400000"/>
                    </a:gradFill>
                  </a:tcPr>
                </a:tc>
              </a:tr>
              <a:tr h="24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PUTUM IL-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gradFill rotWithShape="0">
                      <a:gsLst>
                        <a:gs pos="0">
                          <a:srgbClr val="3333cc"/>
                        </a:gs>
                        <a:gs pos="50000">
                          <a:srgbClr val="00ff00"/>
                        </a:gs>
                        <a:gs pos="100000">
                          <a:srgbClr val="3333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it-IT" sz="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53.53 pg/ml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gradFill rotWithShape="0">
                      <a:gsLst>
                        <a:gs pos="0">
                          <a:srgbClr val="3333cc"/>
                        </a:gs>
                        <a:gs pos="50000">
                          <a:srgbClr val="00ff00"/>
                        </a:gs>
                        <a:gs pos="100000">
                          <a:srgbClr val="3333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it-IT" sz="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42.70  pg/m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gradFill rotWithShape="0">
                      <a:gsLst>
                        <a:gs pos="0">
                          <a:srgbClr val="3333cc"/>
                        </a:gs>
                        <a:gs pos="50000">
                          <a:srgbClr val="00ff00"/>
                        </a:gs>
                        <a:gs pos="100000">
                          <a:srgbClr val="3333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.S.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gradFill rotWithShape="0">
                      <a:gsLst>
                        <a:gs pos="0">
                          <a:srgbClr val="3333cc"/>
                        </a:gs>
                        <a:gs pos="50000">
                          <a:srgbClr val="00ff00"/>
                        </a:gs>
                        <a:gs pos="100000">
                          <a:srgbClr val="3333cc"/>
                        </a:gs>
                      </a:gsLst>
                      <a:lin ang="5400000"/>
                    </a:gradFill>
                  </a:tcPr>
                </a:tc>
              </a:tr>
              <a:tr h="24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ERUM EOTAX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gradFill rotWithShape="0">
                      <a:gsLst>
                        <a:gs pos="0">
                          <a:srgbClr val="3333cc"/>
                        </a:gs>
                        <a:gs pos="50000">
                          <a:srgbClr val="00ff00"/>
                        </a:gs>
                        <a:gs pos="100000">
                          <a:srgbClr val="3333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it-IT" sz="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13.14  pg/m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gradFill rotWithShape="0">
                      <a:gsLst>
                        <a:gs pos="0">
                          <a:srgbClr val="3333cc"/>
                        </a:gs>
                        <a:gs pos="50000">
                          <a:srgbClr val="00ff00"/>
                        </a:gs>
                        <a:gs pos="100000">
                          <a:srgbClr val="3333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it-IT" sz="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4.58 pg/m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gradFill rotWithShape="0">
                      <a:gsLst>
                        <a:gs pos="0">
                          <a:srgbClr val="3333cc"/>
                        </a:gs>
                        <a:gs pos="50000">
                          <a:srgbClr val="00ff00"/>
                        </a:gs>
                        <a:gs pos="100000">
                          <a:srgbClr val="3333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.0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gradFill rotWithShape="0">
                      <a:gsLst>
                        <a:gs pos="0">
                          <a:srgbClr val="3333cc"/>
                        </a:gs>
                        <a:gs pos="50000">
                          <a:srgbClr val="00ff00"/>
                        </a:gs>
                        <a:gs pos="100000">
                          <a:srgbClr val="3333cc"/>
                        </a:gs>
                      </a:gsLst>
                      <a:lin ang="5400000"/>
                    </a:gra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PUTUM EOTAXIN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gradFill rotWithShape="0">
                      <a:gsLst>
                        <a:gs pos="0">
                          <a:srgbClr val="3333cc"/>
                        </a:gs>
                        <a:gs pos="50000">
                          <a:srgbClr val="00ff00"/>
                        </a:gs>
                        <a:gs pos="100000">
                          <a:srgbClr val="3333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it-IT" sz="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5.66 pg/m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gradFill rotWithShape="0">
                      <a:gsLst>
                        <a:gs pos="0">
                          <a:srgbClr val="3333cc"/>
                        </a:gs>
                        <a:gs pos="50000">
                          <a:srgbClr val="00ff00"/>
                        </a:gs>
                        <a:gs pos="100000">
                          <a:srgbClr val="3333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it-IT" sz="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2.79 pg/m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gradFill rotWithShape="0">
                      <a:gsLst>
                        <a:gs pos="0">
                          <a:srgbClr val="3333cc"/>
                        </a:gs>
                        <a:gs pos="50000">
                          <a:srgbClr val="00ff00"/>
                        </a:gs>
                        <a:gs pos="100000">
                          <a:srgbClr val="3333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.S.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gradFill rotWithShape="0">
                      <a:gsLst>
                        <a:gs pos="0">
                          <a:srgbClr val="3333cc"/>
                        </a:gs>
                        <a:gs pos="50000">
                          <a:srgbClr val="00ff00"/>
                        </a:gs>
                        <a:gs pos="100000">
                          <a:srgbClr val="3333cc"/>
                        </a:gs>
                      </a:gsLst>
                      <a:lin ang="5400000"/>
                    </a:gradFill>
                  </a:tcPr>
                </a:tc>
              </a:tr>
              <a:tr h="27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ERUM EOSINOPHIL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gradFill rotWithShape="0">
                      <a:gsLst>
                        <a:gs pos="0">
                          <a:srgbClr val="3333cc"/>
                        </a:gs>
                        <a:gs pos="50000">
                          <a:srgbClr val="00ff00"/>
                        </a:gs>
                        <a:gs pos="100000">
                          <a:srgbClr val="3333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it-IT" sz="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98 Cells/mm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gradFill rotWithShape="0">
                      <a:gsLst>
                        <a:gs pos="0">
                          <a:srgbClr val="3333cc"/>
                        </a:gs>
                        <a:gs pos="50000">
                          <a:srgbClr val="00ff00"/>
                        </a:gs>
                        <a:gs pos="100000">
                          <a:srgbClr val="3333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it-IT" sz="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81 cells/mm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gradFill rotWithShape="0">
                      <a:gsLst>
                        <a:gs pos="0">
                          <a:srgbClr val="3333cc"/>
                        </a:gs>
                        <a:gs pos="50000">
                          <a:srgbClr val="00ff00"/>
                        </a:gs>
                        <a:gs pos="100000">
                          <a:srgbClr val="3333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.0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gradFill rotWithShape="0">
                      <a:gsLst>
                        <a:gs pos="0">
                          <a:srgbClr val="3333cc"/>
                        </a:gs>
                        <a:gs pos="50000">
                          <a:srgbClr val="00ff00"/>
                        </a:gs>
                        <a:gs pos="100000">
                          <a:srgbClr val="3333cc"/>
                        </a:gs>
                      </a:gsLst>
                      <a:lin ang="5400000"/>
                    </a:gradFill>
                  </a:tcPr>
                </a:tc>
              </a:tr>
              <a:tr h="32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PUTUM EOSINOPHILS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gradFill rotWithShape="0">
                      <a:gsLst>
                        <a:gs pos="0">
                          <a:srgbClr val="3333cc"/>
                        </a:gs>
                        <a:gs pos="50000">
                          <a:srgbClr val="00ff00"/>
                        </a:gs>
                        <a:gs pos="100000">
                          <a:srgbClr val="3333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.1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gradFill rotWithShape="0">
                      <a:gsLst>
                        <a:gs pos="0">
                          <a:srgbClr val="3333cc"/>
                        </a:gs>
                        <a:gs pos="50000">
                          <a:srgbClr val="00ff00"/>
                        </a:gs>
                        <a:gs pos="100000">
                          <a:srgbClr val="3333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.77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gradFill rotWithShape="0">
                      <a:gsLst>
                        <a:gs pos="0">
                          <a:srgbClr val="3333cc"/>
                        </a:gs>
                        <a:gs pos="50000">
                          <a:srgbClr val="00ff00"/>
                        </a:gs>
                        <a:gs pos="100000">
                          <a:srgbClr val="3333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.0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gradFill rotWithShape="0">
                      <a:gsLst>
                        <a:gs pos="0">
                          <a:srgbClr val="3333cc"/>
                        </a:gs>
                        <a:gs pos="50000">
                          <a:srgbClr val="00ff00"/>
                        </a:gs>
                        <a:gs pos="100000">
                          <a:srgbClr val="3333cc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1143000" y="6246720"/>
            <a:ext cx="144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ff00"/>
                </a:solidFill>
                <a:latin typeface="Comic Sans MS"/>
              </a:rPr>
              <a:t>TAB 1. </a:t>
            </a:r>
            <a:r>
              <a:rPr b="0" lang="it-IT" sz="800" spc="-1" strike="noStrike">
                <a:solidFill>
                  <a:srgbClr val="99ffcc"/>
                </a:solidFill>
                <a:latin typeface="Comic Sans MS"/>
              </a:rPr>
              <a:t>Eosinophil count,</a:t>
            </a:r>
            <a:r>
              <a:rPr b="0" lang="it-IT" sz="8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0" lang="it-IT" sz="800" spc="-1" strike="noStrike">
                <a:solidFill>
                  <a:srgbClr val="99ffcc"/>
                </a:solidFill>
                <a:latin typeface="Comic Sans MS"/>
              </a:rPr>
              <a:t>IL-13 and eotaxin levels in serum and sputum</a:t>
            </a:r>
            <a:r>
              <a:rPr b="1" lang="it-IT" sz="800" spc="-1" strike="noStrike">
                <a:solidFill>
                  <a:srgbClr val="99ffcc"/>
                </a:solidFill>
                <a:latin typeface="Comic Sans MS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0T14:46:08Z</dcterms:created>
  <dc:creator>specializzandi</dc:creator>
  <dc:description/>
  <dc:language>en-US</dc:language>
  <cp:lastModifiedBy>Administrator</cp:lastModifiedBy>
  <dcterms:modified xsi:type="dcterms:W3CDTF">2004-08-23T12:38:30Z</dcterms:modified>
  <cp:revision>160</cp:revision>
  <dc:subject/>
  <dc:title>Presentazione di PowerPoint</dc:title>
</cp:coreProperties>
</file>