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E9D4-CB34-4D25-825E-B8A4950FC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6800" y="304920"/>
            <a:ext cx="63817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6800" y="2235240"/>
            <a:ext cx="6405480" cy="28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6800" y="5315760"/>
            <a:ext cx="6405480" cy="28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E28D-8779-4E00-8880-792345157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6800" y="304920"/>
            <a:ext cx="63817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6800" y="2235240"/>
            <a:ext cx="3125520" cy="28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8920" y="2235240"/>
            <a:ext cx="3125520" cy="28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6800" y="5315760"/>
            <a:ext cx="3125520" cy="28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8920" y="5315760"/>
            <a:ext cx="3125520" cy="28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0511-9B46-43D1-B601-FDE9E333E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6800" y="304920"/>
            <a:ext cx="63817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6800" y="2235240"/>
            <a:ext cx="2062440" cy="28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92920" y="2235240"/>
            <a:ext cx="2062440" cy="28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58680" y="2235240"/>
            <a:ext cx="2062440" cy="28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6800" y="5315760"/>
            <a:ext cx="2062440" cy="28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92920" y="5315760"/>
            <a:ext cx="2062440" cy="28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58680" y="5315760"/>
            <a:ext cx="2062440" cy="28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0C59-D891-4A9D-8528-BDF074A60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5EF10-EB85-4A55-9927-AF85B5D82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6800" y="304920"/>
            <a:ext cx="63817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26800" y="2235240"/>
            <a:ext cx="6405480" cy="58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36C4E-2011-4366-947B-7F839041E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6800" y="304920"/>
            <a:ext cx="63817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6800" y="2235240"/>
            <a:ext cx="640548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307A0-331A-4A6D-8C75-C0A915210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304920"/>
            <a:ext cx="63817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6800" y="2235240"/>
            <a:ext cx="312552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508920" y="2235240"/>
            <a:ext cx="312552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C48C3-2C80-41D8-BA7A-E2D9E6B62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6800" y="304920"/>
            <a:ext cx="63817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95FF7-D2AE-4FAD-9F45-08A1FD0DF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26800" y="304920"/>
            <a:ext cx="6381720" cy="81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67DF4-FA8B-4CFB-B755-4CEC10F4D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6800" y="304920"/>
            <a:ext cx="63817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6800" y="2235240"/>
            <a:ext cx="3125520" cy="28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508920" y="2235240"/>
            <a:ext cx="312552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26800" y="5315760"/>
            <a:ext cx="3125520" cy="28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23176-B563-4D18-9BBE-1EA4BDD0B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6800" y="304920"/>
            <a:ext cx="63817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6800" y="2235240"/>
            <a:ext cx="6405480" cy="58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62A6-96D6-46E4-A9FF-1FC82F9DF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304920"/>
            <a:ext cx="63817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6800" y="2235240"/>
            <a:ext cx="312552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508920" y="2235240"/>
            <a:ext cx="3125520" cy="28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508920" y="5315760"/>
            <a:ext cx="3125520" cy="28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BE4BF-FCA0-4362-AEFF-9B0B3D74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304920"/>
            <a:ext cx="63817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6800" y="2235240"/>
            <a:ext cx="3125520" cy="28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508920" y="2235240"/>
            <a:ext cx="3125520" cy="28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26800" y="5315760"/>
            <a:ext cx="6405480" cy="28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B0BCD-1755-435C-BD56-87325A4E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304920"/>
            <a:ext cx="63817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6800" y="2235240"/>
            <a:ext cx="6405480" cy="28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26800" y="5315760"/>
            <a:ext cx="6405480" cy="28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D0E9C-C3E3-4752-B390-27549DF30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6800" y="304920"/>
            <a:ext cx="63817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6800" y="2235240"/>
            <a:ext cx="3125520" cy="28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08920" y="2235240"/>
            <a:ext cx="3125520" cy="28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26800" y="5315760"/>
            <a:ext cx="3125520" cy="28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508920" y="5315760"/>
            <a:ext cx="3125520" cy="28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187B1-2791-47FF-9B5C-B73108EEA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6800" y="304920"/>
            <a:ext cx="63817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6800" y="2235240"/>
            <a:ext cx="2062440" cy="28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392920" y="2235240"/>
            <a:ext cx="2062440" cy="28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58680" y="2235240"/>
            <a:ext cx="2062440" cy="28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26800" y="5315760"/>
            <a:ext cx="2062440" cy="28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392920" y="5315760"/>
            <a:ext cx="2062440" cy="28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558680" y="5315760"/>
            <a:ext cx="2062440" cy="28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6AAAE-BDE5-405E-96E7-CC9A08F41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6800" y="304920"/>
            <a:ext cx="63817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6800" y="2235240"/>
            <a:ext cx="640548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867A-D73C-426B-8DEA-FB73EEF79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6800" y="304920"/>
            <a:ext cx="63817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6800" y="2235240"/>
            <a:ext cx="312552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8920" y="2235240"/>
            <a:ext cx="312552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1FE5-B813-4F49-9C8E-AEF32C024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6800" y="304920"/>
            <a:ext cx="63817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5D98-06B0-4D10-8767-46F69203B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6800" y="304920"/>
            <a:ext cx="6381720" cy="81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6640-7994-4FBF-A759-EBDA590AF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6800" y="304920"/>
            <a:ext cx="63817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6800" y="2235240"/>
            <a:ext cx="3125520" cy="28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8920" y="2235240"/>
            <a:ext cx="312552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6800" y="5315760"/>
            <a:ext cx="3125520" cy="28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A527-45E8-41EB-93EA-9F7F5975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6800" y="304920"/>
            <a:ext cx="63817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6800" y="2235240"/>
            <a:ext cx="312552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8920" y="2235240"/>
            <a:ext cx="3125520" cy="28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8920" y="5315760"/>
            <a:ext cx="3125520" cy="28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D83C-74A8-4ECA-828A-4081C579C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6800" y="304920"/>
            <a:ext cx="63817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6800" y="2235240"/>
            <a:ext cx="3125520" cy="28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8920" y="2235240"/>
            <a:ext cx="3125520" cy="28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6800" y="5315760"/>
            <a:ext cx="6405480" cy="28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7F52-C97B-4FF1-B0C0-4466B57A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304920"/>
            <a:ext cx="63817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6800" y="2235240"/>
            <a:ext cx="640548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8326440"/>
            <a:ext cx="171468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26440"/>
            <a:ext cx="17143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66E1F-E207-499E-B812-9C1186DF46BB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2641680"/>
            <a:ext cx="582912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240" y="8326440"/>
            <a:ext cx="171468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4915080" y="8326440"/>
            <a:ext cx="17143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E391D-69E2-4DE5-9B4B-36FC3CEA63F9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59200" y="0"/>
            <a:ext cx="617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660066"/>
                </a:solidFill>
                <a:latin typeface="Arial"/>
              </a:rPr>
              <a:t>RANTES</a:t>
            </a:r>
            <a:r>
              <a:rPr b="1" lang="it-IT" sz="2000" spc="-1" strike="noStrike">
                <a:solidFill>
                  <a:srgbClr val="660066"/>
                </a:solidFill>
                <a:latin typeface="Arial"/>
              </a:rPr>
              <a:t> (Normal T cell Expressed and Secreted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660066"/>
                </a:solidFill>
                <a:latin typeface="Arial"/>
              </a:rPr>
              <a:t>A MARKER OF ASTHMATIC INFLAMMATIO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45000" y="1042920"/>
            <a:ext cx="2743200" cy="1372680"/>
          </a:xfrm>
          <a:prstGeom prst="rect">
            <a:avLst/>
          </a:prstGeom>
          <a:solidFill>
            <a:srgbClr val="dddddd"/>
          </a:solidFill>
          <a:ln w="9360">
            <a:solidFill>
              <a:srgbClr val="b7e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660066"/>
                </a:solidFill>
                <a:latin typeface="Arial"/>
              </a:rPr>
              <a:t>Elevated sputum and serum eosinophils are a typical feature of allergic asthma. RANTES, potent eosinophil chemokines in the lungs, are incresead in asthmatic patient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2280" y="2666880"/>
            <a:ext cx="6451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660066"/>
                </a:solidFill>
                <a:latin typeface="Arial"/>
              </a:rPr>
              <a:t>The aim of this study was to compare RANTES in serum and in induced sputu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660066"/>
                </a:solidFill>
                <a:latin typeface="Arial"/>
              </a:rPr>
              <a:t>of healthy and asymptomatic asthmatic childre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3352680"/>
            <a:ext cx="6292800" cy="1159560"/>
          </a:xfrm>
          <a:prstGeom prst="rect">
            <a:avLst/>
          </a:prstGeom>
          <a:solidFill>
            <a:srgbClr val="ffffff"/>
          </a:solidFill>
          <a:ln w="9360">
            <a:solidFill>
              <a:srgbClr val="b7e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660066"/>
                </a:solidFill>
                <a:latin typeface="Arial"/>
              </a:rPr>
              <a:t>The case-control study was done during summer season in </a:t>
            </a:r>
            <a:r>
              <a:rPr b="1" i="1" lang="it-IT" sz="1400" spc="-1" strike="noStrike">
                <a:solidFill>
                  <a:srgbClr val="660066"/>
                </a:solidFill>
                <a:latin typeface="Arial"/>
              </a:rPr>
              <a:t>27 healthy</a:t>
            </a:r>
            <a:r>
              <a:rPr b="0" lang="it-IT" sz="1400" spc="-1" strike="noStrike">
                <a:solidFill>
                  <a:srgbClr val="660066"/>
                </a:solidFill>
                <a:latin typeface="Arial"/>
              </a:rPr>
              <a:t> non allergic children (mean 11.25 ± 2.2 years) and in </a:t>
            </a:r>
            <a:r>
              <a:rPr b="1" i="1" lang="it-IT" sz="1400" spc="-1" strike="noStrike">
                <a:solidFill>
                  <a:srgbClr val="660066"/>
                </a:solidFill>
                <a:latin typeface="Arial"/>
              </a:rPr>
              <a:t>33 mild asymptomatic atopic asthmatic children</a:t>
            </a:r>
            <a:r>
              <a:rPr b="0" lang="it-IT" sz="1400" spc="-1" strike="noStrike">
                <a:solidFill>
                  <a:srgbClr val="660066"/>
                </a:solidFill>
                <a:latin typeface="Arial"/>
              </a:rPr>
              <a:t> (mean 12.23 ± 2.2 years)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660066"/>
                </a:solidFill>
                <a:latin typeface="Arial"/>
              </a:rPr>
              <a:t>Sputum was induced by inhalation of hypertonic saline solution and the levels of RANTES were determined by immunoassay metho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4495680"/>
            <a:ext cx="1004760" cy="246240"/>
          </a:xfrm>
          <a:prstGeom prst="rect">
            <a:avLst/>
          </a:prstGeom>
          <a:solidFill>
            <a:srgbClr val="b7e7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660066"/>
                </a:solidFill>
                <a:latin typeface="Arial"/>
              </a:rPr>
              <a:t>RESULT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57200" y="4648320"/>
          <a:ext cx="2895480" cy="187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648320"/>
                    <a:ext cx="2895480" cy="18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3505320" y="4648320"/>
          <a:ext cx="2882880" cy="187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4648320"/>
                    <a:ext cx="2882880" cy="18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1676520" y="6172200"/>
            <a:ext cx="501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3366"/>
                </a:solidFill>
                <a:latin typeface="Arial"/>
              </a:rPr>
              <a:t>ng/m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363400" y="6172200"/>
            <a:ext cx="49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3366"/>
                </a:solidFill>
                <a:latin typeface="Arial"/>
              </a:rPr>
              <a:t>ng/m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49400" y="6172200"/>
            <a:ext cx="49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3366"/>
                </a:solidFill>
                <a:latin typeface="Arial"/>
              </a:rPr>
              <a:t>pg/m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10080" y="6172200"/>
            <a:ext cx="505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3366"/>
                </a:solidFill>
                <a:latin typeface="Arial"/>
              </a:rPr>
              <a:t>pg/m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2840" y="78105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6477120"/>
            <a:ext cx="6121440" cy="7333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b7e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660033"/>
                </a:solidFill>
                <a:latin typeface="Arial"/>
              </a:rPr>
              <a:t>Serum RANTES levels did not </a:t>
            </a:r>
            <a:r>
              <a:rPr b="0" lang="it-IT" sz="1400" spc="-1" strike="noStrike">
                <a:solidFill>
                  <a:srgbClr val="660066"/>
                </a:solidFill>
                <a:latin typeface="Arial"/>
              </a:rPr>
              <a:t>correlate</a:t>
            </a:r>
            <a:r>
              <a:rPr b="0" lang="it-IT" sz="1400" spc="-1" strike="noStrike">
                <a:solidFill>
                  <a:srgbClr val="660033"/>
                </a:solidFill>
                <a:latin typeface="Arial"/>
              </a:rPr>
              <a:t> neither with blood eosinophil cells nor with IgE, even if IgE and serum eosinophils were significantly higher in asthmatic children than in controls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09680" y="4952880"/>
            <a:ext cx="914400" cy="276480"/>
          </a:xfrm>
          <a:prstGeom prst="rect">
            <a:avLst/>
          </a:prstGeom>
          <a:solidFill>
            <a:srgbClr val="ffcc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66"/>
                </a:solidFill>
                <a:latin typeface="Arial"/>
              </a:rPr>
              <a:t>p = n.s.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724280" y="4932360"/>
            <a:ext cx="762120" cy="276480"/>
          </a:xfrm>
          <a:prstGeom prst="rect">
            <a:avLst/>
          </a:prstGeom>
          <a:solidFill>
            <a:srgbClr val="ffcc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66"/>
                </a:solidFill>
                <a:latin typeface="Arial"/>
              </a:rPr>
              <a:t>p = 0.0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7238880"/>
            <a:ext cx="6413400" cy="7333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b7e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660066"/>
                </a:solidFill>
                <a:latin typeface="Arial"/>
              </a:rPr>
              <a:t>Sputum eosinophils and exhaled nitric oxide were higher in asthmatic childre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660066"/>
                </a:solidFill>
                <a:latin typeface="Arial"/>
              </a:rPr>
              <a:t>than in controls. Sputum RANTES levels significantly correlated with neutrophils in the sputum (R=0.002), but not with eosinophil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92280" y="8532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8001000"/>
            <a:ext cx="1512720" cy="246240"/>
          </a:xfrm>
          <a:prstGeom prst="rect">
            <a:avLst/>
          </a:prstGeom>
          <a:solidFill>
            <a:srgbClr val="b7e7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660066"/>
                </a:solidFill>
                <a:latin typeface="Arial"/>
              </a:rPr>
              <a:t>CONCLUSION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3124080"/>
            <a:ext cx="1981080" cy="246240"/>
          </a:xfrm>
          <a:prstGeom prst="rect">
            <a:avLst/>
          </a:prstGeom>
          <a:solidFill>
            <a:srgbClr val="b7e7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66"/>
                </a:solidFill>
                <a:latin typeface="Arial"/>
              </a:rPr>
              <a:t>MATERIALS AND METHOD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2438280"/>
            <a:ext cx="533520" cy="246240"/>
          </a:xfrm>
          <a:prstGeom prst="rect">
            <a:avLst/>
          </a:prstGeom>
          <a:solidFill>
            <a:srgbClr val="b7e7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660033"/>
                </a:solidFill>
                <a:latin typeface="Arial"/>
              </a:rPr>
              <a:t>AIM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2280" y="60948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660033"/>
                </a:solidFill>
                <a:latin typeface="Arial"/>
              </a:rPr>
              <a:t>T. Guerrera, MD </a:t>
            </a:r>
            <a:r>
              <a:rPr b="0" lang="it-IT" sz="900" spc="-1" strike="noStrike" baseline="30000">
                <a:solidFill>
                  <a:srgbClr val="660033"/>
                </a:solidFill>
                <a:latin typeface="Arial"/>
              </a:rPr>
              <a:t>1</a:t>
            </a:r>
            <a:r>
              <a:rPr b="0" lang="it-IT" sz="900" spc="-1" strike="noStrike">
                <a:solidFill>
                  <a:srgbClr val="660033"/>
                </a:solidFill>
                <a:latin typeface="Arial"/>
              </a:rPr>
              <a:t>, B. Cuomo, MD </a:t>
            </a:r>
            <a:r>
              <a:rPr b="0" lang="it-IT" sz="900" spc="-1" strike="noStrike" baseline="30000">
                <a:solidFill>
                  <a:srgbClr val="660033"/>
                </a:solidFill>
                <a:latin typeface="Arial"/>
              </a:rPr>
              <a:t>1</a:t>
            </a:r>
            <a:r>
              <a:rPr b="0" lang="it-IT" sz="900" spc="-1" strike="noStrike">
                <a:solidFill>
                  <a:srgbClr val="660033"/>
                </a:solidFill>
                <a:latin typeface="Arial"/>
              </a:rPr>
              <a:t>, L. Fasoli, MD </a:t>
            </a:r>
            <a:r>
              <a:rPr b="0" lang="it-IT" sz="900" spc="-1" strike="noStrike" baseline="30000">
                <a:solidFill>
                  <a:srgbClr val="660033"/>
                </a:solidFill>
                <a:latin typeface="Arial"/>
              </a:rPr>
              <a:t>1</a:t>
            </a:r>
            <a:r>
              <a:rPr b="0" lang="it-IT" sz="900" spc="-1" strike="noStrike">
                <a:solidFill>
                  <a:srgbClr val="660033"/>
                </a:solidFill>
                <a:latin typeface="Arial"/>
              </a:rPr>
              <a:t>, M. Cossettini, MD </a:t>
            </a:r>
            <a:r>
              <a:rPr b="0" lang="it-IT" sz="900" spc="-1" strike="noStrike" baseline="30000">
                <a:solidFill>
                  <a:srgbClr val="660033"/>
                </a:solidFill>
                <a:latin typeface="Arial"/>
              </a:rPr>
              <a:t>1</a:t>
            </a:r>
            <a:r>
              <a:rPr b="0" lang="it-IT" sz="900" spc="-1" strike="noStrike">
                <a:solidFill>
                  <a:srgbClr val="660033"/>
                </a:solidFill>
                <a:latin typeface="Arial"/>
              </a:rPr>
              <a:t>, M. Don, MD </a:t>
            </a:r>
            <a:r>
              <a:rPr b="0" lang="it-IT" sz="900" spc="-1" strike="noStrike" baseline="30000">
                <a:solidFill>
                  <a:srgbClr val="660033"/>
                </a:solidFill>
                <a:latin typeface="Arial"/>
              </a:rPr>
              <a:t>1</a:t>
            </a:r>
            <a:r>
              <a:rPr b="0" lang="it-IT" sz="900" spc="-1" strike="noStrike">
                <a:solidFill>
                  <a:srgbClr val="660033"/>
                </a:solidFill>
                <a:latin typeface="Arial"/>
              </a:rPr>
              <a:t>, S. Maiero, MD </a:t>
            </a:r>
            <a:r>
              <a:rPr b="0" lang="it-IT" sz="900" spc="-1" strike="noStrike" baseline="30000">
                <a:solidFill>
                  <a:srgbClr val="660033"/>
                </a:solidFill>
                <a:latin typeface="Arial"/>
              </a:rPr>
              <a:t>1</a:t>
            </a:r>
            <a:r>
              <a:rPr b="0" lang="it-IT" sz="900" spc="-1" strike="noStrike">
                <a:solidFill>
                  <a:srgbClr val="660033"/>
                </a:solidFill>
                <a:latin typeface="Arial"/>
              </a:rPr>
              <a:t>, A.R. Cussigh, MD </a:t>
            </a:r>
            <a:r>
              <a:rPr b="0" lang="it-IT" sz="900" spc="-1" strike="noStrike" baseline="30000">
                <a:solidFill>
                  <a:srgbClr val="660033"/>
                </a:solidFill>
                <a:latin typeface="Arial"/>
              </a:rPr>
              <a:t>2</a:t>
            </a:r>
            <a:r>
              <a:rPr b="0" lang="it-IT" sz="900" spc="-1" strike="noStrike">
                <a:solidFill>
                  <a:srgbClr val="660033"/>
                </a:solidFill>
                <a:latin typeface="Arial"/>
              </a:rPr>
              <a:t> and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660033"/>
                </a:solidFill>
                <a:latin typeface="Arial"/>
              </a:rPr>
              <a:t>M. Canciani </a:t>
            </a:r>
            <a:r>
              <a:rPr b="0" lang="it-IT" sz="900" spc="-1" strike="noStrike" baseline="30000">
                <a:solidFill>
                  <a:srgbClr val="660033"/>
                </a:solidFill>
                <a:latin typeface="Arial"/>
              </a:rPr>
              <a:t>1</a:t>
            </a:r>
            <a:r>
              <a:rPr b="0" lang="it-IT" sz="900" spc="-1" strike="noStrike">
                <a:solidFill>
                  <a:srgbClr val="660033"/>
                </a:solidFill>
                <a:latin typeface="Arial"/>
              </a:rPr>
              <a:t>. MD </a:t>
            </a:r>
            <a:r>
              <a:rPr b="0" lang="it-IT" sz="900" spc="-1" strike="noStrike" baseline="30000">
                <a:solidFill>
                  <a:srgbClr val="660033"/>
                </a:solidFill>
                <a:latin typeface="Arial"/>
              </a:rPr>
              <a:t>1 </a:t>
            </a:r>
            <a:r>
              <a:rPr b="0" lang="it-IT" sz="900" spc="-1" strike="noStrike">
                <a:solidFill>
                  <a:srgbClr val="660033"/>
                </a:solidFill>
                <a:latin typeface="Arial"/>
              </a:rPr>
              <a:t>Pediatric Dpt DPMSC, University of Udine, Italy and </a:t>
            </a:r>
            <a:r>
              <a:rPr b="0" lang="it-IT" sz="900" spc="-1" strike="noStrike" baseline="30000">
                <a:solidFill>
                  <a:srgbClr val="660033"/>
                </a:solidFill>
                <a:latin typeface="Arial"/>
              </a:rPr>
              <a:t>2</a:t>
            </a:r>
            <a:r>
              <a:rPr b="0" lang="it-IT" sz="900" spc="-1" strike="noStrike">
                <a:solidFill>
                  <a:srgbClr val="660033"/>
                </a:solidFill>
                <a:latin typeface="Arial"/>
              </a:rPr>
              <a:t> Laboratory Dpt DPMSC, University of Udine,  Italy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29760" y="8834400"/>
            <a:ext cx="265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660066"/>
                </a:solidFill>
                <a:latin typeface="Arial"/>
              </a:rPr>
              <a:t>ERS Congress Glasgow 200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8229600"/>
            <a:ext cx="6388200" cy="520200"/>
          </a:xfrm>
          <a:prstGeom prst="rect">
            <a:avLst/>
          </a:prstGeom>
          <a:solidFill>
            <a:srgbClr val="dddddd"/>
          </a:solidFill>
          <a:ln w="25560">
            <a:solidFill>
              <a:srgbClr val="b7e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660066"/>
                </a:solidFill>
                <a:latin typeface="Arial"/>
              </a:rPr>
              <a:t>RANTES is not a practical marker of inflammation during the asymptomatic  phase in asthmatic childre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7"/>
          <a:stretch/>
        </p:blipFill>
        <p:spPr>
          <a:xfrm>
            <a:off x="404640" y="971640"/>
            <a:ext cx="302436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0T19:35:16Z</dcterms:created>
  <dc:creator>T</dc:creator>
  <dc:description/>
  <dc:language>en-US</dc:language>
  <cp:lastModifiedBy>Administrator</cp:lastModifiedBy>
  <cp:lastPrinted>2004-08-17T09:41:13Z</cp:lastPrinted>
  <dcterms:modified xsi:type="dcterms:W3CDTF">2004-08-23T12:38:50Z</dcterms:modified>
  <cp:revision>30</cp:revision>
  <dc:subject/>
  <dc:title>Diapositiva 1</dc:title>
</cp:coreProperties>
</file>