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4E5-8483-4524-B0D9-C6E43A29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640548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6800" y="5315760"/>
            <a:ext cx="640548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8C7-A249-465F-B654-29874F6E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6800" y="531576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8920" y="531576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247-62BF-43BB-B6B9-4683AABC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92920" y="223524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58680" y="223524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6800" y="531576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92920" y="531576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58680" y="531576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973-CCDD-4D6F-BF4C-B8EFCEC7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1BC9-94F9-4962-9675-7A0D02FE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6800" y="2235240"/>
            <a:ext cx="6405480" cy="58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4286-57B6-4688-8018-7D8DA43B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6405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F57A-2CFD-4065-B014-E918939C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F347-E44A-4426-B7EF-9FD280FE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AC69-F619-4657-93E0-6C63F290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6800" y="304920"/>
            <a:ext cx="63817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B770-2D7B-4005-A4AE-CC7E7E46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6800" y="531576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BA51-DDB5-4DB7-9099-9D809A93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6800" y="2235240"/>
            <a:ext cx="6405480" cy="58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837-EAEF-4578-88E1-24B94B51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08920" y="531576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B775-3477-444C-8A72-AD4C145A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6800" y="5315760"/>
            <a:ext cx="640548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6BB3-4FB5-4E2E-84EE-C7574B0D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640548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6800" y="5315760"/>
            <a:ext cx="640548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B9CC-220F-4E8F-9DAC-7DB2876E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6800" y="531576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08920" y="531576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3869-B6F1-4E7B-BA32-4311B09F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92920" y="223524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8680" y="223524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6800" y="531576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392920" y="531576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58680" y="5315760"/>
            <a:ext cx="2062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E591-7F70-4FA2-95CF-824D1D20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6405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BDA-903F-457D-A809-3A318B8F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5CE-CC34-452D-86EF-2E3E34A6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EA2-AF98-4A60-A2A7-4F0987A5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6800" y="304920"/>
            <a:ext cx="638172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1C8-6DE1-4CEE-867F-2A5C3D7D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6800" y="531576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9A2-DAB8-45F9-8D47-CF2BA0B0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8920" y="531576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DEC-61A2-419D-9029-B1FA41C5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680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8920" y="2235240"/>
            <a:ext cx="312552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6800" y="5315760"/>
            <a:ext cx="640548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4D2-9CF6-44EC-ADAA-6C72BE14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304920"/>
            <a:ext cx="63817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6800" y="2235240"/>
            <a:ext cx="6405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326440"/>
            <a:ext cx="17146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440"/>
            <a:ext cx="17143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5D01-B177-46B8-9A4E-25570FAA21A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641680"/>
            <a:ext cx="5829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8326440"/>
            <a:ext cx="17146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915080" y="8326440"/>
            <a:ext cx="17143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DCFD-381D-4AAA-BAE3-3B23389B498F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9200" y="0"/>
            <a:ext cx="61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0066"/>
                </a:solidFill>
                <a:latin typeface="Arial"/>
              </a:rPr>
              <a:t>RANTES</a:t>
            </a:r>
            <a:r>
              <a:rPr b="1" lang="it-IT" sz="2000" spc="-1" strike="noStrike">
                <a:solidFill>
                  <a:srgbClr val="660066"/>
                </a:solidFill>
                <a:latin typeface="Arial"/>
              </a:rPr>
              <a:t> (Normal T cell Expressed and Secreted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0066"/>
                </a:solidFill>
                <a:latin typeface="Arial"/>
              </a:rPr>
              <a:t>A MARKER OF ASTHMATIC INFLAMM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45000" y="1042920"/>
            <a:ext cx="2743200" cy="1372680"/>
          </a:xfrm>
          <a:prstGeom prst="rect">
            <a:avLst/>
          </a:prstGeom>
          <a:solidFill>
            <a:srgbClr val="dddddd"/>
          </a:solidFill>
          <a:ln w="93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Elevated sputum and serum eosinophils are a typical feature of allergic asthma. RANTES, potent eosinophil chemokines in the lungs, are incresead in asthmatic pat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666880"/>
            <a:ext cx="645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The aim of this study was to compare RANTES in serum and in induced sput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of healthy and asymptomatic asthmatic childr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352680"/>
            <a:ext cx="629280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The case-control study was done during summer season in </a:t>
            </a:r>
            <a:r>
              <a:rPr b="1" i="1" lang="it-IT" sz="1400" spc="-1" strike="noStrike">
                <a:solidFill>
                  <a:srgbClr val="660066"/>
                </a:solidFill>
                <a:latin typeface="Arial"/>
              </a:rPr>
              <a:t>27 healthy</a:t>
            </a: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 non allergic children (mean 11.25 ± 2.2 years) and in </a:t>
            </a:r>
            <a:r>
              <a:rPr b="1" i="1" lang="it-IT" sz="1400" spc="-1" strike="noStrike">
                <a:solidFill>
                  <a:srgbClr val="660066"/>
                </a:solidFill>
                <a:latin typeface="Arial"/>
              </a:rPr>
              <a:t>33 mild asymptomatic atopic asthmatic children</a:t>
            </a: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 (mean 12.23 ± 2.2 years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Sputum was induced by inhalation of hypertonic saline solution and the levels of RANTES were determined by immunoassay metho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4495680"/>
            <a:ext cx="1004760" cy="246240"/>
          </a:xfrm>
          <a:prstGeom prst="rect">
            <a:avLst/>
          </a:prstGeom>
          <a:solidFill>
            <a:srgbClr val="b7e7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660066"/>
                </a:solidFill>
                <a:latin typeface="Arial"/>
              </a:rPr>
              <a:t>RESUL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4648320"/>
          <a:ext cx="289548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48320"/>
                    <a:ext cx="28954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505320" y="4648320"/>
          <a:ext cx="2882880" cy="18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648320"/>
                    <a:ext cx="28828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676520" y="6172200"/>
            <a:ext cx="50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3366"/>
                </a:solidFill>
                <a:latin typeface="Arial"/>
              </a:rPr>
              <a:t>ng/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3400" y="6172200"/>
            <a:ext cx="49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3366"/>
                </a:solidFill>
                <a:latin typeface="Arial"/>
              </a:rPr>
              <a:t>ng/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9400" y="6172200"/>
            <a:ext cx="49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3366"/>
                </a:solidFill>
                <a:latin typeface="Arial"/>
              </a:rPr>
              <a:t>pg/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6172200"/>
            <a:ext cx="50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3366"/>
                </a:solidFill>
                <a:latin typeface="Arial"/>
              </a:rPr>
              <a:t>pg/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840" y="78105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477120"/>
            <a:ext cx="6121440" cy="733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33"/>
                </a:solidFill>
                <a:latin typeface="Arial"/>
              </a:rPr>
              <a:t>Serum RANTES levels did not </a:t>
            </a: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correlate</a:t>
            </a:r>
            <a:r>
              <a:rPr b="0" lang="it-IT" sz="1400" spc="-1" strike="noStrike">
                <a:solidFill>
                  <a:srgbClr val="660033"/>
                </a:solidFill>
                <a:latin typeface="Arial"/>
              </a:rPr>
              <a:t> neither with blood eosinophil cells nor with IgE, even if IgE and serum eosinophils were significantly higher in asthmatic children than in control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4952880"/>
            <a:ext cx="91440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p = n.s.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4932360"/>
            <a:ext cx="76212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p = 0.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7238880"/>
            <a:ext cx="6413400" cy="733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Sputum eosinophils and exhaled nitric oxide were higher in asthmatic childr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than in controls. Sputum RANTES levels significantly correlated with neutrophils in the sputum (R=0.002), but not with eosinophi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2280" y="8532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8001000"/>
            <a:ext cx="1512720" cy="246240"/>
          </a:xfrm>
          <a:prstGeom prst="rect">
            <a:avLst/>
          </a:prstGeom>
          <a:solidFill>
            <a:srgbClr val="b7e7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660066"/>
                </a:solidFill>
                <a:latin typeface="Arial"/>
              </a:rPr>
              <a:t>CONCLUS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124080"/>
            <a:ext cx="1981080" cy="246240"/>
          </a:xfrm>
          <a:prstGeom prst="rect">
            <a:avLst/>
          </a:prstGeom>
          <a:solidFill>
            <a:srgbClr val="b7e7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66"/>
                </a:solidFill>
                <a:latin typeface="Arial"/>
              </a:rPr>
              <a:t>MATERIALS AND METHO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438280"/>
            <a:ext cx="533520" cy="246240"/>
          </a:xfrm>
          <a:prstGeom prst="rect">
            <a:avLst/>
          </a:prstGeom>
          <a:solidFill>
            <a:srgbClr val="b7e7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660033"/>
                </a:solidFill>
                <a:latin typeface="Arial"/>
              </a:rPr>
              <a:t>AI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6094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T. Guerrera, M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, B. Cuomo, M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, L. Fasoli, M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, M. Cossettini, M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, M. Don, M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, S. Maiero, M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, A.R. Cussigh, M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2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 and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M. Canciani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1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. M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1 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Pediatric Dpt DPMSC, University of Udine, Italy and </a:t>
            </a:r>
            <a:r>
              <a:rPr b="0" lang="it-IT" sz="900" spc="-1" strike="noStrike" baseline="30000">
                <a:solidFill>
                  <a:srgbClr val="660033"/>
                </a:solidFill>
                <a:latin typeface="Arial"/>
              </a:rPr>
              <a:t>2</a:t>
            </a:r>
            <a:r>
              <a:rPr b="0" lang="it-IT" sz="900" spc="-1" strike="noStrike">
                <a:solidFill>
                  <a:srgbClr val="660033"/>
                </a:solidFill>
                <a:latin typeface="Arial"/>
              </a:rPr>
              <a:t> Laboratory Dpt DPMSC, University of Udine,  Ital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9760" y="8834400"/>
            <a:ext cx="26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0066"/>
                </a:solidFill>
                <a:latin typeface="Arial"/>
              </a:rPr>
              <a:t>ERS Congress Glasgow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8229600"/>
            <a:ext cx="6388200" cy="520200"/>
          </a:xfrm>
          <a:prstGeom prst="rect">
            <a:avLst/>
          </a:prstGeom>
          <a:solidFill>
            <a:srgbClr val="dddddd"/>
          </a:solidFill>
          <a:ln w="255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66"/>
                </a:solidFill>
                <a:latin typeface="Arial"/>
              </a:rPr>
              <a:t>RANTES is not a practical marker of inflammation during the asymptomatic  phase in asthmatic childr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404640" y="971640"/>
            <a:ext cx="3024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9:35:16Z</dcterms:created>
  <dc:creator>T</dc:creator>
  <dc:description/>
  <dc:language>en-US</dc:language>
  <cp:lastModifiedBy>Administrator</cp:lastModifiedBy>
  <cp:lastPrinted>2004-08-17T09:41:13Z</cp:lastPrinted>
  <dcterms:modified xsi:type="dcterms:W3CDTF">2004-08-23T12:38:50Z</dcterms:modified>
  <cp:revision>30</cp:revision>
  <dc:subject/>
  <dc:title>Diapositiva 1</dc:title>
</cp:coreProperties>
</file>