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099-8269-4B83-8D07-8192B835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D2F-1E2D-458C-9104-29CC191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661-043F-4665-A732-26B8DEB3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C25-C47E-4293-A9C1-488D1220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3A5-3B6F-4CA7-9029-6153055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CD2-088C-4C26-A0F8-33B1CF9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CFD-B2F6-4F40-BC69-AB92354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D4F-16CA-4E7B-8D68-21DBB862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F9D-8B57-43D7-B7E9-EE60988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348-6D73-44D1-9548-A699516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5A5-8EB3-4747-9BDC-BD6F181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724-FDEA-4F08-87F0-5A8DC1A5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D84AB7-B688-415B-835C-93FE55C26B4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8077320"/>
            <a:ext cx="121896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7315200"/>
            <a:ext cx="3429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840" y="1239840"/>
            <a:ext cx="6446880" cy="81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Epidemiological evidence suggests that a low dietary intake of antioxidants elements is associated with bronchial hyper-reactivity. In airways of asthmatic patients IL-13 indicates the state of inflammatory response resulting in oxidative st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 u="sng">
                <a:solidFill>
                  <a:srgbClr val="00ccff"/>
                </a:solidFill>
                <a:uFillTx/>
                <a:latin typeface="Verdana"/>
                <a:ea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 goal of this study was to determ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 effect of daily supplementa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vitamins C and E and other antioxid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(Difensil junio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,Humana) on level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IL-13 in asthmatic atopic childre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 u="sng">
                <a:solidFill>
                  <a:srgbClr val="00ccff"/>
                </a:solidFill>
                <a:uFillTx/>
                <a:latin typeface="Verdana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is was a randomized, double bli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lacebo-controlled prospective trial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children with atopic asthma and in 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healthy controls. 33 asthmatic pati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were divided into two groups of 18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15 subjects and received respectively supplementation of antioxidant elements or placebo, twice daily for 4 weeks. The same was done for the 27 controls, divided into two subgroups of 11 and 16 subjects, respectively. IL-13 concentration was analyzed in serum and in induced sputum s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 u="sng">
                <a:solidFill>
                  <a:srgbClr val="00ccff"/>
                </a:solidFill>
                <a:uFillTx/>
                <a:latin typeface="Verdana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Levels of IL-13 in induced sputum were significantly decreased after antioxidant diet in all patients, from 204.05 to 67.58 pg/ml , p= 0.01. The same was observed for serum IL-13, that decreased from 129.21 to 53.24 pg/ml, p=0.01 (tab. 1). In asthmatic patients, after antioxidant diet, IL-13 in induced-sputum decreased from 163.34 pg/ml to 77.42 pg/ml, p= 0.05. In this group of patients antioxidant diet decreased serum IL-13 levels too, from 104.08 pg/ml to 67.01 pg/ml but results were no statistically significant. In heal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subjects after antioxidant die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no differences wer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in IL-13 levels in induc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sputum and in serum lev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400" spc="-1" strike="noStrike" u="sng">
                <a:solidFill>
                  <a:srgbClr val="00ccff"/>
                </a:solidFill>
                <a:uFillTx/>
                <a:latin typeface="Verdana"/>
              </a:rPr>
              <a:t>Conclusions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se data suggest that antioxidant dietary supplementation may have antinflammatory properties especially in asthmatic patients. This can lead to improvement in asthma.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7391520"/>
          <a:ext cx="4714920" cy="375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391520"/>
                    <a:ext cx="471492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5920" y="128520"/>
            <a:ext cx="66024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600" spc="-1" strike="noStrike" u="sng">
                <a:solidFill>
                  <a:srgbClr val="ffccff"/>
                </a:solidFill>
                <a:uFillTx/>
                <a:latin typeface="Verdana"/>
              </a:rPr>
              <a:t>Efficacy of antioxidant supplementation diet in asthmatic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B. Cuomo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L. Fasol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T. Guerrer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M. Cossettin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M. Don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F. Sarett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R. Valsasin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2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 and M. Cancian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Verdana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Verdana"/>
              </a:rPr>
              <a:t>2 Humana Italia, Milan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960120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ccff"/>
                </a:solidFill>
                <a:latin typeface="Verdana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05320" y="1905120"/>
          <a:ext cx="3114720" cy="29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3114720" cy="29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066680" y="3429000"/>
          <a:ext cx="4724640" cy="304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429000"/>
                    <a:ext cx="4724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76520" y="8686800"/>
            <a:ext cx="464796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7543800"/>
            <a:ext cx="3429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8077320"/>
            <a:ext cx="4647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8305920"/>
            <a:ext cx="4647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8077320"/>
            <a:ext cx="0" cy="60948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7315200"/>
            <a:ext cx="0" cy="137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7543800"/>
            <a:ext cx="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7315200"/>
            <a:ext cx="0" cy="137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7543800"/>
            <a:ext cx="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7315200"/>
            <a:ext cx="0" cy="137160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7315200"/>
            <a:ext cx="34290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207324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6640" y="2073240"/>
            <a:ext cx="158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Verdana"/>
              </a:rPr>
              <a:t>Tab. 1 </a:t>
            </a: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IL-13 levels (pg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8:02Z</dcterms:modified>
  <cp:revision>156</cp:revision>
  <dc:subject/>
  <dc:title>Presentazione di PowerPoint</dc:title>
</cp:coreProperties>
</file>