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C5B-16A5-4171-AF2B-2A176B53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E11-4D81-4EF6-A69B-F0B06440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845-033A-46B4-B67B-73004DBA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11A-85A5-4310-B12B-115211F7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9A8-3948-4276-888A-942DAFA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E1-00DC-4E1D-B4E2-0E495226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703-4E22-41A2-A166-EC352E84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CF7-7F62-40DF-A354-CFE00C7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2BE-4E27-41A7-80A8-DE6A78D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BB4-C0B2-4CDA-8A92-E48A92E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BC1-4F17-4D32-A76C-663458F3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07A-11D0-4207-99CA-E8B9C87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9A8890-F22D-4AC3-B410-C3BDBFBE669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8077320"/>
            <a:ext cx="121896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7315200"/>
            <a:ext cx="3429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840" y="1239840"/>
            <a:ext cx="6446880" cy="81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Epidemiological evidence suggests that a low dietary intake of antioxidants elements is associated with bronchial hyper-reactivity. In airways of asthmatic patients IL-13 indicates the state of inflammatory response resulting in oxidative st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 u="sng">
                <a:solidFill>
                  <a:srgbClr val="00ccff"/>
                </a:solidFill>
                <a:uFillTx/>
                <a:latin typeface="Verdana"/>
                <a:ea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 goal of this study was to determ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 effect of daily supplementa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vitamins C and E and other antioxid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(Difensil junio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,Humana) on level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IL-13 in asthmatic atopic childre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 u="sng">
                <a:solidFill>
                  <a:srgbClr val="00ccff"/>
                </a:solidFill>
                <a:uFillTx/>
                <a:latin typeface="Verdana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is was a randomized, double bli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placebo-controlled prospective trial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children with atopic asthma and in 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healthy controls. 33 asthmatic pati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were divided into two groups of 18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15 subjects and received respectively supplementation of antioxidant elements or placebo, twice daily for 4 weeks. The same was done for the 27 controls, divided into two subgroups of 11 and 16 subjects, respectively. IL-13 concentration was analyzed in serum and in induced sputum samp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 u="sng">
                <a:solidFill>
                  <a:srgbClr val="00ccff"/>
                </a:solidFill>
                <a:uFillTx/>
                <a:latin typeface="Verdana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Levels of IL-13 in induced sputum were significantly decreased after antioxidant diet in all patients, from 204.05 to 67.58 pg/ml , p= 0.01. The same was observed for serum IL-13, that decreased from 129.21 to 53.24 pg/ml, p=0.01 (tab. 1). In asthmatic patients, after antioxidant diet, IL-13 in induced-sputum decreased from 163.34 pg/ml to 77.42 pg/ml, p= 0.05. In this group of patients antioxidant diet decreased serum IL-13 levels too, from 104.08 pg/ml to 67.01 pg/ml but results were no statistically significant. In heal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subjects after antioxidant die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no differences wer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in IL-13 levels in induc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sputum and in serum lev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400" spc="-1" strike="noStrike" u="sng">
                <a:solidFill>
                  <a:srgbClr val="00ccff"/>
                </a:solidFill>
                <a:uFillTx/>
                <a:latin typeface="Verdana"/>
              </a:rPr>
              <a:t>Conclusions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These data suggest that antioxidant dietary supplementation may have antinflammatory properties especially in asthmatic patients. This can lead to improvement in asthma.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7391520"/>
          <a:ext cx="4714920" cy="375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391520"/>
                    <a:ext cx="471492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5920" y="128520"/>
            <a:ext cx="66024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600" spc="-1" strike="noStrike" u="sng">
                <a:solidFill>
                  <a:srgbClr val="ffccff"/>
                </a:solidFill>
                <a:uFillTx/>
                <a:latin typeface="Verdana"/>
              </a:rPr>
              <a:t>Efficacy of antioxidant supplementation diet in asthmatic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B. Cuomo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L. Fasol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T. Guerrer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M. Cossettin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M. Don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F. Sarett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, R. Valsasina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2</a:t>
            </a:r>
            <a:r>
              <a:rPr b="1" lang="en-GB" sz="900" spc="-1" strike="noStrike">
                <a:solidFill>
                  <a:srgbClr val="00ccff"/>
                </a:solidFill>
                <a:latin typeface="Verdana"/>
              </a:rPr>
              <a:t> and M. Canciani</a:t>
            </a:r>
            <a:r>
              <a:rPr b="1" lang="en-GB" sz="900" spc="-1" strike="noStrike" baseline="30000">
                <a:solidFill>
                  <a:srgbClr val="00cc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Verdana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Verdana"/>
              </a:rPr>
              <a:t>2 Humana Italia, Milan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960120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ccff"/>
                </a:solidFill>
                <a:latin typeface="Verdana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05320" y="1905120"/>
          <a:ext cx="3114720" cy="29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3114720" cy="29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066680" y="3429000"/>
          <a:ext cx="4724640" cy="304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429000"/>
                    <a:ext cx="4724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76520" y="8686800"/>
            <a:ext cx="464796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7543800"/>
            <a:ext cx="34290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8077320"/>
            <a:ext cx="4647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8305920"/>
            <a:ext cx="4647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8077320"/>
            <a:ext cx="0" cy="60948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7315200"/>
            <a:ext cx="0" cy="137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7543800"/>
            <a:ext cx="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7315200"/>
            <a:ext cx="0" cy="137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7543800"/>
            <a:ext cx="0" cy="1143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7315200"/>
            <a:ext cx="0" cy="137160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7315200"/>
            <a:ext cx="34290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207324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6640" y="2073240"/>
            <a:ext cx="158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ffff"/>
                </a:solidFill>
                <a:latin typeface="Verdana"/>
              </a:rPr>
              <a:t>Tab. 1 </a:t>
            </a: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IL-13 levels (pg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8:02Z</dcterms:modified>
  <cp:revision>156</cp:revision>
  <dc:subject/>
  <dc:title>Presentazione di PowerPoint</dc:title>
</cp:coreProperties>
</file>