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7CD-31CC-4590-A088-CD59F2B5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672-F48D-415D-9C9E-EFDCCD23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EC9-15DC-4209-9F30-206F7B68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799-4543-4992-9466-D2494175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CC7-223A-4F8F-8F93-FA74E6A6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489-89DA-4EF7-B860-182D7B48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078-77AB-4AA8-ABFD-A20FDA19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DFB-2FAE-4100-9900-60E430B6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0A7-6497-493F-8787-FF23D08E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AB6-4D9C-4AA4-93FE-BC534D4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CD0-CD1B-4E00-BF94-F8EB27CC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33C-DED3-4688-B6E2-35C86AD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13951E-0797-486F-B7FF-054131D0982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240" y="277920"/>
            <a:ext cx="6602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400" spc="-1" strike="noStrike">
                <a:solidFill>
                  <a:srgbClr val="ff6699"/>
                </a:solidFill>
                <a:latin typeface="Comic Sans MS"/>
                <a:ea typeface="Times New Roman"/>
              </a:rPr>
              <a:t>SPUTUM CC-CHEMOKINES, IL-13 AND PULMONARY FUNCTION IN ALLERGIC ASTHMATIC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L.Fasoli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M.Cossettini</a:t>
            </a:r>
            <a:r>
              <a:rPr b="0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0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T. Guerrera</a:t>
            </a:r>
            <a:r>
              <a:rPr b="0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B. Cuomo</a:t>
            </a:r>
            <a:r>
              <a:rPr b="0" lang="it-IT" sz="1000" spc="-1" strike="noStrike" baseline="30000">
                <a:solidFill>
                  <a:srgbClr val="00ccff"/>
                </a:solidFill>
                <a:latin typeface="Comic Sans MS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M.Don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S. Maiero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, AR. Cussigh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2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 and M.Canciani</a:t>
            </a:r>
            <a:r>
              <a:rPr b="1" lang="it-IT" sz="1000" spc="-1" strike="noStrike" baseline="30000">
                <a:solidFill>
                  <a:srgbClr val="00ccff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00ccff"/>
                </a:solidFill>
                <a:latin typeface="Comic Sans MS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i="1" lang="it-IT" sz="800" spc="-1" strike="noStrike">
                <a:solidFill>
                  <a:srgbClr val="00ccff"/>
                </a:solidFill>
                <a:latin typeface="Comic Sans MS"/>
              </a:rPr>
              <a:t>1 Pediatric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i="1" lang="it-IT" sz="800" spc="-1" strike="noStrike">
                <a:solidFill>
                  <a:srgbClr val="00ccff"/>
                </a:solidFill>
                <a:latin typeface="Comic Sans MS"/>
              </a:rPr>
              <a:t>2 Laboratory 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840" y="1353960"/>
            <a:ext cx="6446880" cy="77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C-chemokines such as regulated on activation normal T-cell expressed and secreted (RANTES), thymus and activation-regulated chemokine (TARC) and eotaxin are primarily involved in allergic inflammation through their chemotactic effects on activated T cells and eosinophils, currently correlated with asthma disease severity. Higher CC-chemokines levels have been demonstrated in the bronchoalveolar lavage fluid (BAL) and biopsy from asthmatic patients. Interleukin-13 (IL-13) is produced at elevated levels in the asthmatic lung and is thought to be a central regulator of many of the hallmark features of the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 u="sng">
                <a:solidFill>
                  <a:srgbClr val="00ccff"/>
                </a:solidFill>
                <a:uFillTx/>
                <a:latin typeface="Comic Sans MS"/>
                <a:ea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aim of this study was to correlate CC-chemokines and IL-13 levels in induced sputum with pulmonary function and exhaled nitric oxide (eNO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ccff"/>
                </a:solidFill>
                <a:uFillTx/>
                <a:latin typeface="Comic Sans MS"/>
                <a:ea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duced sputum from 33 patients with moderate asymptomatic, allergic asthma and from 27 healthy, non allergic children during summer season was obtained. Sputum levels of chemokines were measured by immunoassay.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Sputum was induced by inhalation hypertonic saline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ccff"/>
                </a:solidFill>
                <a:uFillTx/>
                <a:latin typeface="Comic Sans MS"/>
                <a:ea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orced vital capacity (FVC) was correlated with TARC (R=-0.311, p=0.01), RANTES (R=-0.300, p=0.02) and IL-13 (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R=-0.321, p=0.01). No correlation has been found between FVC and eotaxin. Even if eNO is higher in asthmatic children than controls (21.24 ppb and 5.47 ppb, respectively, p&lt;0.001), we have not found any correlation between eNO and CC- chemoki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ccff"/>
                </a:solidFill>
                <a:uFillTx/>
                <a:latin typeface="Comic Sans MS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In conclusion, it is interesting to hypothesize that the expression of CC- chemokines might correlate with asthma severity and that a reduction of their levels could improve lung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09640" y="9372600"/>
            <a:ext cx="339588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>
                <a:solidFill>
                  <a:srgbClr val="00ccff"/>
                </a:solidFill>
                <a:latin typeface="Comic Sans MS"/>
              </a:rPr>
              <a:t>ERS Congress Glasgow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040" y="8380440"/>
            <a:ext cx="5859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04640" y="5024520"/>
          <a:ext cx="3960720" cy="1581120"/>
        </p:xfrm>
        <a:graphic>
          <a:graphicData uri="http://schemas.openxmlformats.org/drawingml/2006/table">
            <a:tbl>
              <a:tblPr/>
              <a:tblGrid>
                <a:gridCol w="1096920"/>
                <a:gridCol w="957240"/>
                <a:gridCol w="954000"/>
                <a:gridCol w="95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Asthmatic childr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Contro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FVC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04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0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TARC (pg/m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441.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57.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RANTES (pg/m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5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48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900" spc="-1" strike="noStrike">
                          <a:solidFill>
                            <a:srgbClr val="ff6699"/>
                          </a:solidFill>
                          <a:latin typeface="Comic Sans MS"/>
                        </a:rPr>
                        <a:t>IL-13 (pg/m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24.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82.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1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ff"/>
                      </a:solidFill>
                    </a:lnL>
                    <a:lnR w="5760">
                      <a:solidFill>
                        <a:srgbClr val="00ccff"/>
                      </a:solidFill>
                    </a:lnR>
                    <a:lnT w="5760">
                      <a:solidFill>
                        <a:srgbClr val="00ccff"/>
                      </a:solidFill>
                    </a:lnT>
                    <a:lnB w="5760">
                      <a:solidFill>
                        <a:srgbClr val="00cc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653000" y="5240160"/>
            <a:ext cx="201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ccff"/>
                </a:solidFill>
                <a:latin typeface="Comic Sans MS"/>
              </a:rPr>
              <a:t>TAB 1.</a:t>
            </a:r>
            <a:r>
              <a:rPr b="1" lang="it-IT" sz="1200" spc="-1" strike="noStrike">
                <a:solidFill>
                  <a:srgbClr val="00ccff"/>
                </a:solidFill>
                <a:latin typeface="Comic Sans MS"/>
              </a:rPr>
              <a:t> 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Differences in sputum TARC, RANTES, IL-13 levels (pg/ml) and FVC (%) between asthmatic children and contr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4:46:08Z</dcterms:created>
  <dc:creator>specializzandi</dc:creator>
  <dc:description/>
  <dc:language>en-US</dc:language>
  <cp:lastModifiedBy>Administrator</cp:lastModifiedBy>
  <dcterms:modified xsi:type="dcterms:W3CDTF">2004-08-23T12:37:37Z</dcterms:modified>
  <cp:revision>155</cp:revision>
  <dc:subject/>
  <dc:title>Presentazione di PowerPoint</dc:title>
</cp:coreProperties>
</file>