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21B-7A17-4611-B519-F3653105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655-34E8-43AC-9585-2F01160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C1D-C97C-41F8-B6A2-35617F61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9B3-687C-48DB-A666-C6E56543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970-755A-4E43-AD6E-C2DBA33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F26-9A1C-43E9-86B7-572CF8A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AC2-E7DA-4CCE-B3C4-761C4A16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108-2C53-4567-98D7-35FBC69B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38F-EC5F-4325-A096-BBA7A1A2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0A1-BBD1-4310-AAC5-7A8CDC9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93C-31B6-49E7-8BB9-80E32BE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E5B-44C7-4322-8F08-BC736A5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3422EB-5F10-418D-8CF2-181655CA0BF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76320"/>
            <a:ext cx="66024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INTERACTION BETWEEN EOTAXIN AND IL-13 IN SER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AND SPUTUM: COMPARISON BETWEEN 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AND ALLERGIC ASTHMATICS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. Cossettin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M. Don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B. Cuomo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L. Fasol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T. Guerrera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F. Saretta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D. Artico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2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and M. Cancian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i="1" lang="it-IT" sz="800" spc="-1" strike="noStrike">
                <a:solidFill>
                  <a:srgbClr val="99ffcc"/>
                </a:solidFill>
                <a:latin typeface="Comic Sans MS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i="1" lang="it-IT" sz="800" spc="-1" strike="noStrike">
                <a:solidFill>
                  <a:srgbClr val="99ffcc"/>
                </a:solidFill>
                <a:latin typeface="Comic Sans MS"/>
              </a:rPr>
              <a:t>2  Pathology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6402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otaxin, among the CC-chemokine, is the most potent and most specific chemoattractant for eosinophils </a:t>
            </a:r>
            <a:r>
              <a:rPr b="0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(1)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T helper type 2 cytokine interleukin-13 (IL-13) induces eosinophilic inflammatory response and up-regulates eotaxin production </a:t>
            </a:r>
            <a:r>
              <a:rPr b="0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(2)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 u="sng">
                <a:solidFill>
                  <a:srgbClr val="00ff00"/>
                </a:solidFill>
                <a:uFillTx/>
                <a:latin typeface="Comic Sans MS"/>
                <a:ea typeface="Arial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im of this study was to compare IL-13 levels in serum and induced sputum in asthmatics and controls and to correlate IL-13 levels with eotaxin and eosinophils.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 evaluated IL-13 levels in serum and induced sputum from 33 children with moderate asymptomatic, allergic asthma and in 27 healthy, non-allergic children during summer. We correlated IL-13 levels with eotaxin and eosinophils in serum and sputum, too. Serum and sputum levels of eotaxin and IL-13 were measured by immunoassay. Sputum was induced by inhalation of hypertonic salin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No differences were found in sputum and serum IL-13 levels between asthmatics and controls. No correlations were found between sputum eotaxin and sputum IL-13. Sputum and serum IL-13 were not correlated with sputum and serum eosinophils. Serum (mean respectively 498/mmc and 281/mmc; p=0.001) and sputum (mean respectively 5.11% and 0.77%; p=0.002) eosinophils were significantly higher in asthmatics than in controls. Eotaxin levels were higher in asthmatics than in control subjects in serum (mean respectively 113.14pg/ml and 64.58pg/ml; p=0.002) but not in induced sput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09640" y="967104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ff00"/>
                </a:solidFill>
                <a:latin typeface="Comic Sans MS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848720"/>
            <a:ext cx="64785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</a:rPr>
              <a:t>Conclusions</a:t>
            </a: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conclusion, it seems that during asymptomatic phases eotaxin production is not induced by IL-13. These results suggest that the Th2 cytokine IL-13 is not involved in selective recruitment of eosinophils by up-regulating eotaxin during the asymptomatic phase of asth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Refer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Rothenberg ME. Eosinophilia. N Engl J Med 1998;338:1592-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2. Wills-Karp M, Luyimbazi J, Xu X, Schofield B, Neben TY, Karp CL, Donaldson DD. Interleukin-13: central mediator of allergic asthma. Science 1998;103:779-7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666880" y="6048360"/>
          <a:ext cx="3962160" cy="1800360"/>
        </p:xfrm>
        <a:graphic>
          <a:graphicData uri="http://schemas.openxmlformats.org/drawingml/2006/table">
            <a:tbl>
              <a:tblPr/>
              <a:tblGrid>
                <a:gridCol w="1428480"/>
                <a:gridCol w="943200"/>
                <a:gridCol w="993600"/>
                <a:gridCol w="596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STH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IL-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4.07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.39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IL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3.53 pg/m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2.70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EOTAX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3.14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.58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EOTAXI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.66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.79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EOSINOPHI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98 Cells/mm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1 cells/mm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EOSINOPHIL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7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43000" y="624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ff00"/>
                </a:solidFill>
                <a:latin typeface="Comic Sans MS"/>
              </a:rPr>
              <a:t>TAB 1. </a:t>
            </a:r>
            <a:r>
              <a:rPr b="0" lang="it-IT" sz="800" spc="-1" strike="noStrike">
                <a:solidFill>
                  <a:srgbClr val="99ffcc"/>
                </a:solidFill>
                <a:latin typeface="Comic Sans MS"/>
              </a:rPr>
              <a:t>Eosinophil count,</a:t>
            </a:r>
            <a:r>
              <a:rPr b="0" lang="it-IT" sz="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800" spc="-1" strike="noStrike">
                <a:solidFill>
                  <a:srgbClr val="99ffcc"/>
                </a:solidFill>
                <a:latin typeface="Comic Sans MS"/>
              </a:rPr>
              <a:t>IL-13 and eotaxin levels in serum and sputum</a:t>
            </a:r>
            <a:r>
              <a:rPr b="1" lang="it-IT" sz="8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8:30Z</dcterms:modified>
  <cp:revision>160</cp:revision>
  <dc:subject/>
  <dc:title>Presentazione di PowerPoint</dc:title>
</cp:coreProperties>
</file>